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16.png" ContentType="image/png"/>
  <Override PartName="/ppt/media/image24.png" ContentType="image/png"/>
  <Override PartName="/ppt/media/image18.jpeg" ContentType="image/jpeg"/>
  <Override PartName="/ppt/media/image21.png" ContentType="image/png"/>
  <Override PartName="/ppt/media/image20.png" ContentType="image/png"/>
  <Override PartName="/ppt/media/image19.jpeg" ContentType="image/jpeg"/>
  <Override PartName="/ppt/media/image10.png" ContentType="image/png"/>
  <Override PartName="/ppt/media/image17.jpeg" ContentType="image/jpeg"/>
  <Override PartName="/ppt/media/image14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AFA0-889F-467C-BFB5-864DCAAC0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34A9-13BC-48E5-8B14-A6FD4BB0E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7B41-60D2-45BC-903E-402E44F03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54BE-8779-4693-AFC7-7B73A1A6A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C0EA-7D70-4EB1-AD24-979EE0C75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9DF3-E452-4D2C-97F6-782CE3077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D89B-1174-40DD-974C-549900029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FCE3-3D4E-474E-85A5-A50954858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19A5-7D2F-4972-AF15-18BA9B848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B8E3-5FAE-4B98-8966-75E3D82B5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DFCD-763B-4EB9-9D0B-B8066EA5F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F6AB-8FFA-400E-B397-4B94DFEEB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2BE8-8085-4E2C-A8C1-F4A286245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E615-A98B-4A24-BF75-8DB763C80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F276-8D65-4505-806C-348A58E76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0A60-E7ED-461E-B457-7B5BBA81D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E903-EBA1-4534-8B68-9D361CE06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6885-2A60-41A4-98FA-1C188E7C2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CBBB-D0B9-44EF-A2B4-E2E3B4075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DF45-CE15-4602-8FF9-9F1FCDC5B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234D-E497-408C-8961-CB77CB624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7CBD-3BB1-4611-B768-2539E0FB8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56D5-7AE5-46D6-B04D-467B886D3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FF18-9FA7-4F3E-ADAF-C1B7C803C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73DE-E985-4925-A673-648656938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D64B-C376-450A-AAF9-2F7F91D46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D87A-D997-4375-887B-3B46CD5A1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4137-EA54-4624-B326-76D8673D3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9E13-AAB4-4A36-A3C1-39AA2F839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4C14-B6C3-4916-BB2C-B91E8FD88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F73D-5AE5-4D95-95FE-A4B094CA2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982D-C0E1-4A40-8DDC-BEFE445FA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3CF3-CFFD-4CEC-A3A1-4BF6D7FC7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E175-3CD7-48CF-93AD-E76C295D2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0B04-9E5F-49E3-BAE8-5B3768F17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FA08-3834-4E89-8F94-3E6F44D25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8F5A-A5BE-4E2F-B07B-25232D7BA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F4BE-6F3F-4A5D-8FA4-C0F3D1303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C61C-60D3-4217-BC96-88E0640E1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CB9F-2271-4E68-A403-2A2821506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B712-5B69-4675-9E62-FF85877F8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45F6-918A-4ACF-B072-286C759D9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5CC4-A811-4B59-A5F4-04E8B8442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F184-7BC9-4214-9018-7ABFE0767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2F7A-7A72-4B9C-A54F-D4382B006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3124-A836-419C-8D27-32363C1B8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B91E-33FA-4B0D-97F4-9BB9F94D4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8A9F-A02E-414B-9C58-06910211F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DEF4-A816-4B56-8799-815194FC1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51BD-E861-4967-8489-9A192CD81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32A9-C0CB-4210-BD02-0EE2FC12F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061B-9F64-49BC-9851-DC21C0CC0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9479-5063-4785-8A10-3B8F0A3D3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43CB-1401-4096-8AAD-6AC6920F4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27F9-0A4A-4CEB-A12A-FC7EBF02B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82F4-53DD-4AB1-A174-F7E1D8B45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3F8C-B977-4D08-8B4C-48D8DA03C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C144-3070-4146-A1A1-E564C9C55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F796-1F27-4739-8F70-CD83C2B3C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D13F-D36D-4956-8B98-80CCEED49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E8DC-20BD-472A-AC54-0FC4C90C7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6E09-5BE4-4607-B72A-7754398D2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DB98-4194-41A3-BF41-260ED2556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2A64-0785-4782-BD9F-0A65FA370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C3DE-1ECA-4F5B-A137-2EDD4CAA4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2FF4-D14B-4E31-BBB8-8B91C50E9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FFFB-7F40-4760-80EA-C589FCE0C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F1B9-8B5F-4738-8EAA-56064BD85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4982-5274-45A7-9DE6-832832748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0F73-E526-4E72-B6C2-DF6FC036A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FABD-C2C7-4CA3-9C43-F98AAED49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2D73-55DB-479E-89A5-8DBC64D01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2CB8-F9BB-40CB-9315-6B96606B1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9EAD-452B-49EC-899D-D40BF9711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6B33-D3E2-4067-A15B-C91631CE9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6654-A819-4751-ACE4-0DD7126F5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9E26-A7D3-41F4-BA78-7807251BA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6E4A-9702-44E0-94F5-D165FB9E8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DEE9-6F03-4574-868B-F7063F0C3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B012-4BDF-48AF-A21F-DF5BC80CC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8071-69A5-4EAB-AF3F-FDFA391A2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32C6-17FB-4689-8444-785BB0107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D0FF-E133-4A4A-8CAD-5E0846D61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49FC-0A2D-41A3-9A8F-ED9D72285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D8F-5628-43F8-8630-D1419D44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017-5DE1-4269-8007-7FA8BFFE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73C5-59C7-49A2-B74C-E87238BB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8BA-7233-4716-9630-E64ECA0F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5D86-CD32-4582-B886-1ACCFB78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8806-1F1C-45B6-93B8-3CA1DFEC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04CA-EF28-4725-B05D-4467C444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FA73-B213-42D5-82CF-8E3A7138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652A-8F01-49B0-856C-C26A0044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F55B-DE27-494B-9902-ED2E11F8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26EC-4E02-472D-B01A-058A44E9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1CC3-81A0-4FA1-8C81-13FB810E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D433-75EE-4821-BF3C-708012DF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6DB6-0E49-47CD-97DA-828550ED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8943-8B25-45D4-ADE3-4DE07CB4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9A9C-5E50-4274-AA96-549671E0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C1B3-42E0-4C41-BA3C-CB50614A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64A-CCA3-40C6-949A-DE667935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91F2-0DFD-4D76-9235-34F23DAB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DB5C-3FD9-4D65-B2A7-D2072220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3A8E-66FC-4153-AC76-8546BFEB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BCD-E6EA-44B2-968D-F87E6EE5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CFF5-ECD7-4786-9DC0-CE401F88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CE61-BE88-4CE7-8359-2F8777B4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B350-42FC-4032-9A91-BA849ED0D01E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CCEF-73B1-4736-88A5-0C505F2DFA5D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kahoot.it/#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Unit II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economic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SEMI1-SSEMI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Fi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0904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roups of people, such as families, that live together and purchase many goods to be shared by everyone in the group. …ex. Furniture, appliances, and cooking equipment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Rectangle 5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45040" cy="920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nifty-little-house"/>
          <p:cNvPicPr/>
          <p:nvPr/>
        </p:nvPicPr>
        <p:blipFill>
          <a:blip r:embed="rId2"/>
          <a:stretch/>
        </p:blipFill>
        <p:spPr>
          <a:xfrm>
            <a:off x="304920" y="3681360"/>
            <a:ext cx="8381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95200" y="10760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vides necessary goods and services that might otherwise not be provided by what the market dema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Rectangle 1" descr=""/>
          <p:cNvPicPr/>
          <p:nvPr/>
        </p:nvPicPr>
        <p:blipFill>
          <a:blip r:embed="rId1"/>
          <a:stretch/>
        </p:blipFill>
        <p:spPr>
          <a:xfrm>
            <a:off x="311040" y="152280"/>
            <a:ext cx="4260960" cy="920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685800" y="3352680"/>
            <a:ext cx="7924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tional Defens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national%20defense3"/>
          <p:cNvPicPr/>
          <p:nvPr/>
        </p:nvPicPr>
        <p:blipFill>
          <a:blip r:embed="rId1"/>
          <a:stretch/>
        </p:blipFill>
        <p:spPr>
          <a:xfrm>
            <a:off x="1066680" y="2133720"/>
            <a:ext cx="74678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aintaining Public Par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%7B1606A0E1-9C7B-4E6F-A868-EB64A082153C%7D"/>
          <p:cNvPicPr/>
          <p:nvPr/>
        </p:nvPicPr>
        <p:blipFill>
          <a:blip r:embed="rId1"/>
          <a:stretch/>
        </p:blipFill>
        <p:spPr>
          <a:xfrm>
            <a:off x="30240" y="1569960"/>
            <a:ext cx="853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onu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washington-dc-monument-s"/>
          <p:cNvPicPr/>
          <p:nvPr/>
        </p:nvPicPr>
        <p:blipFill>
          <a:blip r:embed="rId1"/>
          <a:stretch/>
        </p:blipFill>
        <p:spPr>
          <a:xfrm>
            <a:off x="228600" y="2286000"/>
            <a:ext cx="84582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28600" y="3805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oth businesses and households pay taxes to benefit society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461880" y="2209680"/>
            <a:ext cx="76201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0880" y="7189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ouseholds, businesses, and governments depend on each other in order for the economy to function smoothl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Rectangle 5" descr=""/>
          <p:cNvPicPr/>
          <p:nvPr/>
        </p:nvPicPr>
        <p:blipFill>
          <a:blip r:embed="rId1"/>
          <a:stretch/>
        </p:blipFill>
        <p:spPr>
          <a:xfrm>
            <a:off x="1042920" y="0"/>
            <a:ext cx="67658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0880" y="1752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sehold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re Labors &amp; Consum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sinesse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re Producers and Consum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vernment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Produces, Consumes, and provides structure, regulations, law, and order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Rectangle 4" descr=""/>
          <p:cNvPicPr/>
          <p:nvPr/>
        </p:nvPicPr>
        <p:blipFill>
          <a:blip r:embed="rId1"/>
          <a:stretch/>
        </p:blipFill>
        <p:spPr>
          <a:xfrm>
            <a:off x="396720" y="304920"/>
            <a:ext cx="6766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ircular Flow of Economic Activity”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economic flow of MONEY between households, businesses, and governments is the </a:t>
            </a: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Circular Flow of Econ Activity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28600" y="228600"/>
            <a:ext cx="8373960" cy="606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morning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come in quietly and have a s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out your device (ask for an I-pad if you need 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on to kah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Arial"/>
                <a:ea typeface="Arial"/>
                <a:hlinkClick r:id="rId1"/>
              </a:rPr>
              <a:t>https://kahoot.it/#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rst Name, La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pretest for Micro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labor-union-7"/>
          <p:cNvPicPr/>
          <p:nvPr/>
        </p:nvPicPr>
        <p:blipFill>
          <a:blip r:embed="rId1"/>
          <a:stretch/>
        </p:blipFill>
        <p:spPr>
          <a:xfrm>
            <a:off x="152280" y="1500120"/>
            <a:ext cx="8610840" cy="4648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411120" y="365040"/>
            <a:ext cx="79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9bd5"/>
                </a:solidFill>
                <a:latin typeface="Arial"/>
              </a:rPr>
              <a:t>Factor / Resource Mark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8440" y="1676520"/>
            <a:ext cx="8602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cludes all exchanges that businesses must make in order to produce things, because they involve the four factors of produc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nd****Rent (rent to landlord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bor****Wages (Wages to worker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trepreneurship &amp; Capital***Interest on a loan (people who lend them money to operate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152388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11120" y="365040"/>
            <a:ext cx="79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9bd5"/>
                </a:solidFill>
                <a:latin typeface="Arial"/>
              </a:rPr>
              <a:t>Factor / Resource Mark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where producers invest in new capital to increase productio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ployers find the labor necessary to run their busin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11120" y="365040"/>
            <a:ext cx="79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9bd5"/>
                </a:solidFill>
                <a:latin typeface="Arial"/>
              </a:rPr>
              <a:t>Factor / Resource Mark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duct Mark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5" descr="108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ouseholds spend their money in the product mar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oods that are sold to consumers for final consump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33160" y="8377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seholds buying things that businesses have made creates a flow back to businesses as profits…Businesses use the profit to buy more resources in the factor market, so they can make more products for households to buy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Circular Flow Model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Fig_2"/>
          <p:cNvPicPr/>
          <p:nvPr/>
        </p:nvPicPr>
        <p:blipFill>
          <a:blip r:embed="rId1"/>
          <a:stretch/>
        </p:blipFill>
        <p:spPr>
          <a:xfrm>
            <a:off x="533520" y="2019240"/>
            <a:ext cx="80010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ere households are the demanders in the product market and suppliers in the factor market!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b. Explain the Role of Money and hot it facilitates exchang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middle-east-gues-speaker-biblical-business-graphic"/>
          <p:cNvPicPr/>
          <p:nvPr/>
        </p:nvPicPr>
        <p:blipFill>
          <a:blip r:embed="rId1"/>
          <a:stretch/>
        </p:blipFill>
        <p:spPr>
          <a:xfrm>
            <a:off x="228600" y="2209680"/>
            <a:ext cx="85345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artering to Mone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ey as a 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Medium of exchange: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Money can be anything that a buyers and sellers in an economy are wiling to accept for paym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tandard of value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Money allows US to compare the econ. value of different goods and serv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SSEMI1: Goods, Services, and Money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The student will describe how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 Light"/>
              </a:rPr>
              <a:t>households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,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 Light"/>
              </a:rPr>
              <a:t>businesses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, an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 Light"/>
              </a:rPr>
              <a:t>governments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ar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 Light"/>
              </a:rPr>
              <a:t>interdependent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 an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interact through flows of goods, services, and money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Groupwork: Illustrate A Circular Flow Diagram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Pick a product that YOUR group likes and show how it goes through the Circular Flow Diagra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. Outline all of the flows of exchange and each element of the diagra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. Include Product Market, Resource Market, households, and Businesses and how they reac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6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4. Explain the resources that are needed to make the product and how the household will PAY for the Product and USE the PRODUCT!!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5. Put it in the circular flow model with all the appropriate arrows labeled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 2: Supply and Deman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21337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44546a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44546a"/>
                </a:solidFill>
                <a:latin typeface="Calibri"/>
              </a:rPr>
              <a:t>The student will explain how the </a:t>
            </a:r>
            <a:r>
              <a:rPr b="1" lang="en-US" sz="4800" spc="-1" strike="noStrike" u="sng">
                <a:solidFill>
                  <a:srgbClr val="44546a"/>
                </a:solidFill>
                <a:uFillTx/>
                <a:latin typeface="Calibri"/>
              </a:rPr>
              <a:t>Law of Demand</a:t>
            </a:r>
            <a:r>
              <a:rPr b="1" lang="en-US" sz="4800" spc="-1" strike="noStrike">
                <a:solidFill>
                  <a:srgbClr val="44546a"/>
                </a:solidFill>
                <a:latin typeface="Calibri"/>
              </a:rPr>
              <a:t>, the </a:t>
            </a:r>
            <a:r>
              <a:rPr b="1" lang="en-US" sz="4800" spc="-1" strike="noStrike" u="sng">
                <a:solidFill>
                  <a:srgbClr val="44546a"/>
                </a:solidFill>
                <a:uFillTx/>
                <a:latin typeface="Calibri"/>
              </a:rPr>
              <a:t>Law of Supply</a:t>
            </a:r>
            <a:r>
              <a:rPr b="1" lang="en-US" sz="4800" spc="-1" strike="noStrike">
                <a:solidFill>
                  <a:srgbClr val="44546a"/>
                </a:solidFill>
                <a:latin typeface="Calibri"/>
              </a:rPr>
              <a:t>, prices, and profits work to determine production and distribution in a market econom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2: 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Define 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Law of Supply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Law of Deman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aw of Supply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5" descr="0"/>
          <p:cNvPicPr/>
          <p:nvPr/>
        </p:nvPicPr>
        <p:blipFill>
          <a:blip r:embed="rId1"/>
          <a:stretch/>
        </p:blipFill>
        <p:spPr>
          <a:xfrm>
            <a:off x="304920" y="1828800"/>
            <a:ext cx="853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ppl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upply is the total quantity of a product that producers are willing to make and sell at a certain pric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aw of Suppl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 company needs to charge a price high enough to earn a profit. The higher the price a company can charge, the more it is willing to suppl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1" descr=""/>
          <p:cNvPicPr/>
          <p:nvPr/>
        </p:nvPicPr>
        <p:blipFill>
          <a:blip r:embed="rId1"/>
          <a:stretch/>
        </p:blipFill>
        <p:spPr>
          <a:xfrm>
            <a:off x="152280" y="384120"/>
            <a:ext cx="8839440" cy="92088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990720" y="1305000"/>
            <a:ext cx="81532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monies and goods flow through the econom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Fig_2"/>
          <p:cNvPicPr/>
          <p:nvPr/>
        </p:nvPicPr>
        <p:blipFill>
          <a:blip r:embed="rId2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pply Curv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lecture-supply-supply"/>
          <p:cNvPicPr/>
          <p:nvPr/>
        </p:nvPicPr>
        <p:blipFill>
          <a:blip r:embed="rId1"/>
          <a:stretch/>
        </p:blipFill>
        <p:spPr>
          <a:xfrm>
            <a:off x="533520" y="1828800"/>
            <a:ext cx="6933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Demonstrates the relationship between price and suppl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Demand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5" descr="01010"/>
          <p:cNvPicPr/>
          <p:nvPr/>
        </p:nvPicPr>
        <p:blipFill>
          <a:blip r:embed="rId1"/>
          <a:stretch/>
        </p:blipFill>
        <p:spPr>
          <a:xfrm>
            <a:off x="380880" y="1981080"/>
            <a:ext cx="830592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quantity of a product that consumers are willing and able to buy at a certain pr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aw of Demand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higher the price of an item the lower the demand for it will be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s prices rise, quantity demanded decreases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mand Curv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5" descr="MkDm33"/>
          <p:cNvPicPr/>
          <p:nvPr/>
        </p:nvPicPr>
        <p:blipFill>
          <a:blip r:embed="rId1"/>
          <a:stretch/>
        </p:blipFill>
        <p:spPr>
          <a:xfrm>
            <a:off x="380880" y="1981080"/>
            <a:ext cx="83059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hows the relationship between price and dema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aw of Supply an Deman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tates that supply (What is produced) will be determined by what is demanded (what will consumers buy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2: b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Describe the role of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Buyers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Sellers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in determining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Market Clearing Pri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earing Market Pri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5" descr="eqm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52280" y="151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Illustrate by means of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ircular flow diagr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oduct mark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esource mark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the real flow of goods and services between and among businesses, households, and government; and the flow of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Fig_2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Price at which producers are willing to make the same amount of a product that consumers dema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en buyers and sellers interact in a market…the Market clearing price is determined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5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en companies develop new products, an equilibrium price and quantity will eventually be determined by the interaction of buyers and seller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2: c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. Illustrate on a graph how supply and demand determine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equilibrium price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and quantity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quilibrium Pri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5" descr="350px-economic-surplusessvg"/>
          <p:cNvPicPr/>
          <p:nvPr/>
        </p:nvPicPr>
        <p:blipFill>
          <a:blip r:embed="rId1"/>
          <a:stretch/>
        </p:blipFill>
        <p:spPr>
          <a:xfrm>
            <a:off x="457200" y="1905120"/>
            <a:ext cx="82296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quilibrium Pri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2133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s similar to Market clearing Price in that the Equilibrium price is placed on a chart that combines the supply curve and the demand curve on a graph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2: 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Explain how prices serve as incentives in a Market Econom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owering prices are an incentive for people to purchase more goods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5" descr="profiles_Lamborghini_3543_712669"/>
          <p:cNvPicPr/>
          <p:nvPr/>
        </p:nvPicPr>
        <p:blipFill>
          <a:blip r:embed="rId1"/>
          <a:stretch/>
        </p:blipFill>
        <p:spPr>
          <a:xfrm>
            <a:off x="304920" y="3657600"/>
            <a:ext cx="8839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SSEMI3: Supply and Deman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44546a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44546a"/>
                </a:solidFill>
                <a:latin typeface="Calibri"/>
              </a:rPr>
              <a:t>The student will explain how markets, prices, and competition influence economic behavio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3: 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Identify and illustrate on a graph factors that cause changes in market supply and dema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actors that cause Chang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decease in the price of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f the price of an item increases, demand for its substitutes increas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Fi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 3: b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b. Explain and illustrate on a graph how price floors create surpluses and price ceilings create shortage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ice Flo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5" descr="Price_floor_eqm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52280" y="21337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the minimum allowable price…Price Floors lead to surpluses…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Surplus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occur when supply exceeds demand…MILK is a prime example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rplus are noticed on a graph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en the demand is below the equilibrium price…a Surplus occur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ice Ceil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5" descr="Basic_price_ceiling"/>
          <p:cNvPicPr/>
          <p:nvPr/>
        </p:nvPicPr>
        <p:blipFill>
          <a:blip r:embed="rId1"/>
          <a:stretch/>
        </p:blipFill>
        <p:spPr>
          <a:xfrm>
            <a:off x="457200" y="1905120"/>
            <a:ext cx="84582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e Highest price that can be charged for a particular good or servic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hortag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 price below equilibrium results in a shortage of goods. Price Ceiling can lead to a shortage, because the demand maybe high but the supply low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: c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Define price elasticity of demand and supply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ice Elasticit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ensitivity of price to supply and demand and its tendency to fluctuate as supply and demand change is referred to as Price Elasticity.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6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ce is not 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 changes depending on supply and deman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 more a change in price affects supply and/or demand, the greater a product’s price elasticity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ontent Placeholder 1" descr=""/>
          <p:cNvPicPr/>
          <p:nvPr/>
        </p:nvPicPr>
        <p:blipFill>
          <a:blip r:embed="rId1"/>
          <a:stretch/>
        </p:blipFill>
        <p:spPr>
          <a:xfrm>
            <a:off x="111240" y="1662120"/>
            <a:ext cx="4422600" cy="5195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646520" y="213372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9" descr="nifty-little-house"/>
          <p:cNvPicPr/>
          <p:nvPr/>
        </p:nvPicPr>
        <p:blipFill>
          <a:blip r:embed="rId2"/>
          <a:stretch/>
        </p:blipFill>
        <p:spPr>
          <a:xfrm>
            <a:off x="4592520" y="1674720"/>
            <a:ext cx="4572000" cy="518328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10" descr=""/>
          <p:cNvPicPr/>
          <p:nvPr/>
        </p:nvPicPr>
        <p:blipFill>
          <a:blip r:embed="rId3"/>
          <a:stretch/>
        </p:blipFill>
        <p:spPr>
          <a:xfrm>
            <a:off x="1590840" y="231840"/>
            <a:ext cx="53276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mand Inelastic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ithin limits, people will buy about the same amount of a product no matter what the price especially if there is no substitute… </a:t>
            </a:r>
            <a:r>
              <a:rPr b="0" lang="en-US" sz="4800" spc="-1" strike="noStrike">
                <a:solidFill>
                  <a:srgbClr val="ff9900"/>
                </a:solidFill>
                <a:latin typeface="Calibri"/>
              </a:rPr>
              <a:t>example Bread, Oil, Milk, and Eggs.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mand Elasticity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epends on the taste of individuals…items that are luxury on the other hand are sensitive to changes in price…think about houses in Henry Count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Is related to changes in prices and quantiti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4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Business and Market Structur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SSEMI4 </a:t>
            </a: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The student will explain the organization and role of business and analyze the four types of market</a:t>
            </a: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structures in the U.S. economy.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2120" y="518148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4: a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. Compare and contrast three forms of business organization—sole proprietorship, partnership, and corporatio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28600" y="990720"/>
          <a:ext cx="8915400" cy="607356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66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iness Typ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ed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vantag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advantag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e Proprietorshi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h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por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tnership Advantage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pecialization of the partner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isadvantage of incorpor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Double Taxa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4: b.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Explain the role of profit as an incentive for entrepreneurs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Fi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fit is the incentive for entrepreneurs to take risk because that is why they created their business, to make mone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If they didn’t wish to make money, why would they create a business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21337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entrepreneurs don’t make their consumers happy, the consumers will not buy their product and they will lose mone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 long as entrepreneurs make a product and the consumer is willing to buy it, their goal of making money is reache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4: c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dentify the basic characteristics o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monopoly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oligopoly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monopolistic competition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pure competition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Monopol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 structure characterized by a single producer; form of imperfect competi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ligopol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ket structure in which a few large sellers dominate and have the ability to affect the prices in the industry; form of imperfect compet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onopolistic Competi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21333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 structure having all conditions of pure competition except for identical products; form of imperfect competi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ure Competition –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independent buyers and sellers making informed decisions on products they wish to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urchase and sel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7160" y="1152360"/>
            <a:ext cx="788652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roduce Goods and Servic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4029120" cy="920520"/>
          </a:xfrm>
          <a:prstGeom prst="rect">
            <a:avLst/>
          </a:prstGeom>
          <a:ln w="0">
            <a:noFill/>
          </a:ln>
        </p:spPr>
      </p:pic>
      <p:pic>
        <p:nvPicPr>
          <p:cNvPr id="110" name="Content Placeholder 1" descr=""/>
          <p:cNvPicPr/>
          <p:nvPr/>
        </p:nvPicPr>
        <p:blipFill>
          <a:blip r:embed="rId2"/>
          <a:stretch/>
        </p:blipFill>
        <p:spPr>
          <a:xfrm>
            <a:off x="533520" y="2895480"/>
            <a:ext cx="8153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6:57:25Z</dcterms:created>
  <dc:creator>Kristen</dc:creator>
  <dc:description/>
  <dc:language>en-US</dc:language>
  <cp:lastModifiedBy>Patrick Ethington</cp:lastModifiedBy>
  <dcterms:modified xsi:type="dcterms:W3CDTF">2015-09-08T11:37:00Z</dcterms:modified>
  <cp:revision>13</cp:revision>
  <dc:subject/>
  <dc:title>Unit II</dc:title>
</cp:coreProperties>
</file>